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2CAC-C40D-4B4B-9BA0-1FD3DAF18C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4120-18AB-4D73-A6BB-5667FF9860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237C-3C56-4406-88E6-7657D3C338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A202-0E84-4500-B295-3C59282DB0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8874-64BC-48E8-B18E-A22C8D22E5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E03B-C5BC-4256-AE57-66A230C354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39CA-3CD8-471D-AE58-649A18096A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4886-BC18-454E-B2E2-3C568EFA14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5FA3-8293-4604-8A3A-EA6E37381B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191-0CA8-4E02-8FF1-F967317248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47E9-3FFB-42F3-A3DA-D3B4245560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A234-A5F6-44EF-B545-23F0988757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06C8-4164-4ADB-95A6-FE8C664AD2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1200"/>
            </a:b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F9F7-39CB-4A7D-863F-45AB9DBBDD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660B-C963-416B-A432-C873B91D6E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ACAD-F90A-4CC8-AFC7-C7D76F8E34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725F-CD4E-4D12-AF49-6098B365F3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53B-A8A5-42DD-B7F9-FDCEE7F4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4F5-AEC0-4369-BBE2-9D71F01B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A01-5AB3-484C-B8DC-1E96D734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F7B-7FD2-49D8-9708-BC962ABA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26E-FE88-4314-B279-F92C9536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DBA-496E-4AD9-889D-1BAC1CC4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552-7750-435D-8390-99D32503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C28-5D78-444C-8855-D9C3DCAC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0B5-7B77-455E-85B4-5068D41B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C6A-77C4-4BAA-A70B-0FF4CEBE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707-6EFE-4370-A433-3B6147D5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796-0305-408C-93BC-AB86DB35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582E-DA96-470B-9D0D-7ABC1F3766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LEGION</cp:lastModifiedBy>
  <dcterms:modified xsi:type="dcterms:W3CDTF">2015-01-20T08:01:48Z</dcterms:modified>
  <cp:revision>27</cp:revision>
  <dc:subject/>
  <dc:title>Михаил Александрович Шолохов </dc:title>
</cp:coreProperties>
</file>